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148-5B1B-4A03-8CAE-F2F668C7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F07-6D73-4875-8ABA-79CB8A95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0FE-BA6F-4206-B3D9-BC327853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93D-1E7E-4FA1-93BF-C667C802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A282-957F-477C-8806-39F3DCFE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C230-A9A1-4F71-A7EC-587BE746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8A36-9A43-4906-893B-89AEA6DB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FD4F-8704-4649-93A0-602B07E3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9AE4-8917-43EE-B36B-EDF969EE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9371-0B06-43C8-8154-6C4437F3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A9EA-B43A-4B6C-AA61-AC6CDF28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445-C7A0-4D0E-AEE8-089CC60E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799D-91AC-40AB-8D0B-A58AA999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4EA0-4C78-4F88-9099-0AB8EC12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7B86-BBB9-4285-90E9-74152236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3E3B-1E40-4EE9-81AF-6E5E3DE1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B3EF-B7D0-4F44-822A-0A531C88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D6B-C22D-4554-A771-329155A3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465-30C8-4C3D-B325-17717840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AB7-4C6B-43B2-A23E-8F6CEEE2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429-776A-4F8D-AFB9-0EE70A69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0D8-1287-4FA6-AE23-7C2B5016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152-10FC-4727-A520-A0A28C70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C7B-7FCA-4756-BE1B-EA183E8B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5EEC-9622-4901-82B9-58BE0177D0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361E-2156-444A-885D-BD6CFEABE8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y Teachers Must Become Change Agents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hael Fulla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38280" y="495288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Karen Burke, CS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ern Connecticut Stat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rsonal Refle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become a educa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you remain in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j0215317"/>
          <p:cNvPicPr/>
          <p:nvPr/>
        </p:nvPicPr>
        <p:blipFill>
          <a:blip r:embed="rId1"/>
          <a:stretch/>
        </p:blipFill>
        <p:spPr>
          <a:xfrm>
            <a:off x="6764400" y="3809880"/>
            <a:ext cx="200484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  Make A Difference in the Lives of Student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ullan’s The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teaching a noble and effective profession teachers must combine the mantle of moral purpose with the skills of change ag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j0231730"/>
          <p:cNvPicPr/>
          <p:nvPr/>
        </p:nvPicPr>
        <p:blipFill>
          <a:blip r:embed="rId1"/>
          <a:stretch/>
        </p:blipFill>
        <p:spPr>
          <a:xfrm>
            <a:off x="3809880" y="4267080"/>
            <a:ext cx="3353040" cy="22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Four Core Capacities for Building Greater Change Capacity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25909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Vision-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j0215490"/>
          <p:cNvPicPr/>
          <p:nvPr/>
        </p:nvPicPr>
        <p:blipFill>
          <a:blip r:embed="rId1"/>
          <a:stretch/>
        </p:blipFill>
        <p:spPr>
          <a:xfrm>
            <a:off x="6019920" y="3352680"/>
            <a:ext cx="279720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ersonal Vision-Build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ing and re-examining why we came into tea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fference am I trying to make person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 vision forces us to take a stand for a preferred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Assignment: Write your own vision statement for you as an educ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qui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ssential activity for keeping our paradigm current is persistent question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-long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-long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ed by information and ideas in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j0345611"/>
          <p:cNvPicPr/>
          <p:nvPr/>
        </p:nvPicPr>
        <p:blipFill>
          <a:blip r:embed="rId1"/>
          <a:stretch/>
        </p:blipFill>
        <p:spPr>
          <a:xfrm>
            <a:off x="7467480" y="152280"/>
            <a:ext cx="139248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aste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ise is central to successfu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initial teache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-long staf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just exposed to new ideas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kil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j0283212"/>
          <p:cNvPicPr/>
          <p:nvPr/>
        </p:nvPicPr>
        <p:blipFill>
          <a:blip r:embed="rId1"/>
          <a:stretch/>
        </p:blipFill>
        <p:spPr>
          <a:xfrm>
            <a:off x="6629400" y="4648320"/>
            <a:ext cx="220968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ollabor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37124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ceiling effect to how much we can learn if we keep it to our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 as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14:04:44Z</dcterms:created>
  <dc:creator>Information Technology</dc:creator>
  <dc:description/>
  <dc:language>en-US</dc:language>
  <cp:lastModifiedBy>Karen Burke</cp:lastModifiedBy>
  <dcterms:modified xsi:type="dcterms:W3CDTF">2009-06-17T12:00:24Z</dcterms:modified>
  <cp:revision>13</cp:revision>
  <dc:subject/>
  <dc:title>Why Teachers Must Become Change Agents Michael Fullan</dc:title>
</cp:coreProperties>
</file>